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EEB7-0CBC-48F8-9812-D3CA432D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304-6DDE-4B7C-8069-C8027E9B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4E2-EAF7-495E-B32C-6518A843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8752-6E8A-4F10-BEAB-E20269DC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71B3-43FC-43D6-8B2B-E5A09C0F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13C-B98A-4EF6-B870-56A6CB19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E06E-A1EB-40EE-A297-69321CD9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EE7-13C2-486C-B5C5-3848A816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82E-11B3-4EC3-883F-096BA656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92EC-84B9-45E3-BF9F-FC84528F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39B-B451-4043-8148-8E4A6A9E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197D-7C26-48F1-889E-AB445418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F253-A751-4FF3-87FD-AC00AB682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aratedepot.com/wp-ni-50.html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karatedepot.com/un-sp-10.html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www.karatedepot.com/wp-ni-90.html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smaws.com/hayabusa-striking-shin-guards-p-3191.htm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n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E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ctures of nin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Ninja"/>
          <p:cNvPicPr/>
          <p:nvPr/>
        </p:nvPicPr>
        <p:blipFill>
          <a:blip r:embed="rId1"/>
          <a:stretch/>
        </p:blipFill>
        <p:spPr>
          <a:xfrm>
            <a:off x="6629400" y="1600200"/>
            <a:ext cx="220176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Ninja Weapons"/>
          <p:cNvPicPr/>
          <p:nvPr/>
        </p:nvPicPr>
        <p:blipFill>
          <a:blip r:embed="rId2"/>
          <a:stretch/>
        </p:blipFill>
        <p:spPr>
          <a:xfrm>
            <a:off x="6095880" y="4356000"/>
            <a:ext cx="3048120" cy="250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676520" y="1143000"/>
            <a:ext cx="4190760" cy="419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3581280"/>
            <a:ext cx="18162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ninja practice throwing stars"/>
          <p:cNvPicPr/>
          <p:nvPr/>
        </p:nvPicPr>
        <p:blipFill>
          <a:blip r:embed="rId1"/>
          <a:stretch/>
        </p:blipFill>
        <p:spPr>
          <a:xfrm>
            <a:off x="5562720" y="45720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black practic sai"/>
          <p:cNvPicPr/>
          <p:nvPr/>
        </p:nvPicPr>
        <p:blipFill>
          <a:blip r:embed="rId2"/>
          <a:stretch/>
        </p:blipFill>
        <p:spPr>
          <a:xfrm>
            <a:off x="228600" y="3962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Nunchaku Extend A Chuck"/>
          <p:cNvPicPr/>
          <p:nvPr/>
        </p:nvPicPr>
        <p:blipFill>
          <a:blip r:embed="rId3"/>
          <a:stretch/>
        </p:blipFill>
        <p:spPr>
          <a:xfrm>
            <a:off x="5943600" y="4114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2286000" cy="3200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276720" y="4419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2590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el wield s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327672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nja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1148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wield kn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64911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 kn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4456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n chu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44956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9600" y="1371600"/>
            <a:ext cx="3635280" cy="5486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0280" y="152280"/>
            <a:ext cx="1727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nja g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Hayabusa Pro Striking Shin Guar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36576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&quot;NINJA MINI THROW STARS"/>
          <p:cNvPicPr/>
          <p:nvPr/>
        </p:nvPicPr>
        <p:blipFill>
          <a:blip r:embed="rId3"/>
          <a:stretch/>
        </p:blipFill>
        <p:spPr>
          <a:xfrm>
            <a:off x="0" y="358128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2 PC Ninja Throwing knife set"/>
          <p:cNvPicPr/>
          <p:nvPr/>
        </p:nvPicPr>
        <p:blipFill>
          <a:blip r:embed="rId4"/>
          <a:stretch/>
        </p:blipFill>
        <p:spPr>
          <a:xfrm>
            <a:off x="327672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'Spy Watcher Sword"/>
          <p:cNvPicPr/>
          <p:nvPr/>
        </p:nvPicPr>
        <p:blipFill>
          <a:blip r:embed="rId5"/>
          <a:stretch/>
        </p:blipFill>
        <p:spPr>
          <a:xfrm>
            <a:off x="6019920" y="304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'3 Piece NINJA RING SET- Large"/>
          <p:cNvPicPr/>
          <p:nvPr/>
        </p:nvPicPr>
        <p:blipFill>
          <a:blip r:embed="rId6"/>
          <a:stretch/>
        </p:blipFill>
        <p:spPr>
          <a:xfrm>
            <a:off x="0" y="8380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nja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njas are like soldiers but ninjas are silent and more deadly and ninjas have more weaponry. Ninjas were the most deadly people in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e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954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-228600" y="12193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095880" y="9907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.s. ninjas are awesome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6:54:36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2-01-27T16:52:51Z</dcterms:modified>
  <cp:revision>12</cp:revision>
  <dc:subject/>
  <dc:title>Ninjas</dc:title>
</cp:coreProperties>
</file>